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589E-82D0-4CB5-B727-52B2ADF4D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5D4A-8528-4CB3-AE9D-B4764DA93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4C1E-6895-42EE-B91D-50D8CFE75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D945-0814-4921-8D71-EB60AD83C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B93CD-22E9-4770-94A0-84744A4FD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F17A2-47AB-44B3-A643-0D3B099CA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BF3BF-62E6-4966-9A21-8CC5A9556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D3A98-C584-40A6-BC52-AE8DDEB35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A9F3A-35FA-4CC8-BB00-7B105259F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C494A-9987-440C-AB06-64A1F7733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1F9DF-5BF3-44F4-947C-6C8905040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9207-A45D-48B8-AE4F-9315373DB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6AA52-FE00-44A5-9E36-CFFDFE666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2C170-1F1B-4C13-BED7-332AC81FA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9D9B7-7386-4CF6-958A-FD4092195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CA7FE-3E76-49B8-BA84-C4A32BD96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9E1A6-194B-4207-A1B6-C10AF4B20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A96D-0B6D-4A1F-BAE7-42BB1CBC6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8A0D-4AAD-4277-8633-9F0196B80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74D8-B04B-4438-80C9-3823D505C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5FF2-739D-4E7F-B99F-C16B73E41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CCC3-9440-4B88-8C3C-CAA5C7A16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315C-138B-49EC-9F05-21CFFE465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EA91-A3F1-4792-BDC9-93CD27443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495E3-48BF-4B53-8E78-536FAF31C7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C7D36-DB5E-4CAA-A777-A40F42D6BE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studentsoftheworld.info/sites/nat/img/15410_050620_penguins_vmed.widec&amp;imgrefurl=http://www.studentsoftheworld.info/sites/nat/15410.php&amp;h=442&amp;w=298&amp;sz=19&amp;hl=en&amp;start=4&amp;tbnid=ILJ5YFhOz5_PAM:&amp;tbnh=127&amp;tbnw=86&amp;prev=/images%3Fq%3Dpenguins%26gbv%3D2%26hl%3Den" TargetMode="External"/><Relationship Id="rId3" Type="http://schemas.openxmlformats.org/officeDocument/2006/relationships/image" Target="../media/image2.jpeg"/><Relationship Id="rId4" Type="http://schemas.openxmlformats.org/officeDocument/2006/relationships/hyperlink" Target="http://images.google.com/imgres?imgurl=http://www.penguins.cl/penguin/gentoo-penguins.jpg&amp;imgrefurl=http://www.penguins.cl/penguins-intro.htm&amp;h=480&amp;w=640&amp;sz=26&amp;hl=en&amp;start=2&amp;tbnid=KJR8VU2xdnxuDM:&amp;tbnh=103&amp;tbnw=137&amp;prev=/images%3Fq%3Dpenguins%26gbv%3D2%26hl%3Den" TargetMode="External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falklandstravel.com/king%2520penguin%25201.JPG&amp;imgrefurl=http://www.tqnyc.org/NYC074444/King.html&amp;h=434&amp;w=465&amp;sz=26&amp;hl=en&amp;start=5&amp;tbnid=VbBncwY7CK49VM:&amp;tbnh=119&amp;tbnw=128&amp;prev=/images%3Fq%3Dpenguins%26gbv%3D2%26hl%3Den" TargetMode="External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simonc.f2o.org/south/images/penguin_island.jpg&amp;imgrefurl=http://simonc.f2o.org/south/archives/000145.php&amp;h=400&amp;w=600&amp;sz=66&amp;hl=en&amp;start=8&amp;tbnid=bIvvymzIM33d9M:&amp;tbnh=90&amp;tbnw=135&amp;prev=/images%3Fq%3Dpenguins%26gbv%3D2%26hl%3Den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polarcruises.com/Images/art_Penguins_emperor_and_chick.jpg&amp;imgrefurl=http://www.polarcruises.com/articles.cfm%3Fpole%3Dantarctica%26mainnav%3Darticles%26curr_groupid%3D4%26curr_subgroupid%3D4&amp;h=359&amp;w=300&amp;sz=18&amp;hl=en&amp;start=7&amp;tbnid=oEBC93KkYmfzdM:&amp;tbnh=121&amp;tbnw=101&amp;prev=/images%3Fq%3Dpenguins%26gbv%3D2%26hl%3Den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animals.nationalgeographic.com/staticfiles/NGS/Shared/StaticFiles/animals/images/primary/emperor-penguins.jpg&amp;imgrefurl=http://animals.nationalgeographic.com/animals/printable/emperor-penguin.html&amp;h=324&amp;w=470&amp;sz=30&amp;hl=en&amp;start=10&amp;tbnid=_R1bD8JCPf9YrM:&amp;tbnh=89&amp;tbnw=129&amp;prev=/images%3Fq%3Dpenguins%26gbv%3D2%26hl%3Den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pbs.org/wnet/nature/penguins/images/wallpaper/penguins_large.jpg&amp;imgrefurl=http://www.pbs.org/wnet/nature/penguins/&amp;h=768&amp;w=1024&amp;sz=148&amp;hl=en&amp;start=11&amp;tbnid=XT3_wMa6bKwJ6M:&amp;tbnh=113&amp;tbnw=150&amp;prev=/images%3Fq%3Dpenguins%26gbv%3D2%26hl%3Den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lettersfromnyc.mu.nu/archives/Emperor%2520Penguins.JPG&amp;imgrefurl=http://lettersfromnyc.mu.nu/archives/205988.php&amp;h=365&amp;w=471&amp;sz=32&amp;hl=en&amp;start=19&amp;tbnid=cj49_kubk-OWuM:&amp;tbnh=100&amp;tbnw=129&amp;prev=/images%3Fq%3Dpenguins%26gbv%3D2%26hl%3Den" TargetMode="Externa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enguin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y: Carly Covingt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09480" y="2743200"/>
            <a:ext cx="1962360" cy="35053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705720" y="1600200"/>
            <a:ext cx="1904760" cy="18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Do you know anything about Penguins? If not you will have to read on.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080" y="2133720"/>
            <a:ext cx="2210040" cy="28191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191120" y="2362320"/>
            <a:ext cx="286704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Penguins eat krill, fish, and squid.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nguins’ favorite food to eat is kril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nguins eat fish more often than anything els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819520" y="3733920"/>
            <a:ext cx="30384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Penguins are different colors.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nguins are black on their backs and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ite on their bellie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nguins have orange on their beak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505320" y="3886200"/>
            <a:ext cx="22096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Penguins are camouflage.</a:t>
            </a:r>
            <a:br>
              <a:rPr sz="2800"/>
            </a:b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nguins have black on their back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cause it helps them blend i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can hide in dark places if they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n’t wont to be found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352680" y="4419720"/>
            <a:ext cx="259092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The Emperor penguins are the</a:t>
            </a:r>
            <a:br>
              <a:rPr sz="2800"/>
            </a:b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largest of the 17 species.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emperor can be about 20 inche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o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emperor is the largest penguin on Earth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352680" y="4114800"/>
            <a:ext cx="27432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Penguins can breathe under water</a:t>
            </a:r>
            <a:br>
              <a:rPr sz="2800"/>
            </a:b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for 6 minutes.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3429000"/>
            <a:ext cx="5029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2514600"/>
            <a:ext cx="77724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y find fish, krill, and squid wh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y are under water all that tim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fter they stay under water for 6 minu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y jump up and come bac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172200" y="4724280"/>
            <a:ext cx="1523880" cy="15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Now you know much about </a:t>
            </a:r>
            <a:br>
              <a:rPr sz="2800"/>
            </a:b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penguins!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2895480" y="1981080"/>
            <a:ext cx="335304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1T12:47:23Z</dcterms:created>
  <dc:creator>kkaiser</dc:creator>
  <dc:description/>
  <dc:language>en-US</dc:language>
  <cp:lastModifiedBy>JATKINSO</cp:lastModifiedBy>
  <dcterms:modified xsi:type="dcterms:W3CDTF">2008-02-20T20:11:58Z</dcterms:modified>
  <cp:revision>3</cp:revision>
  <dc:subject/>
  <dc:title>Animal Name</dc:title>
</cp:coreProperties>
</file>